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5AEE4-AA42-4510-81FF-AF25B0253E0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6862F-04FD-4FD2-B021-6C5CFE7C98A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93689-53EE-4E75-A4A1-B64FCF23F88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224BD-EFF3-4449-B314-A849E69427B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C57F0-B9B1-4F72-BB5D-9F8C398BE8B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1F0D5-16B3-46E0-8B82-2D52993E583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D5E5E-81F6-4A24-9A65-10D12EB7860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01600-C119-4D6A-A9AA-7C3E59F860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C50FF-9D13-43B3-BC6B-3A4674E1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1C43D-0EB6-41F6-918F-6207C09A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81241-47FC-4380-8418-C23E9BBCAC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57958-ACB1-4AB4-B193-6A80A2C4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477EA-5EC6-451C-A540-EF0A333A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669A9-C2DC-4ABE-9B11-6E051C99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06628-A55D-4981-9785-B3610FA8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5B2DE-A82A-488E-8D22-55302F5F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1EFA8-E719-4BBD-9F00-4A7CFC45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3C426-550C-4657-A792-25FDFD0D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3D99C-F7A5-4582-B54C-2AE6369E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C74E1D-3B8F-45C0-887E-1E15880B4B3C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dinámic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ACTIVIDAD VOLCÁNICA 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Y BORDES DE PLA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78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ctividad volcánica y bordes de pla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900000" y="1413000"/>
            <a:ext cx="73454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riesgo volcánico es la probabilidad de que en un lugar se produzcan daños humanos o económicos debido a la actividad de un volcá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e riesgo depende de varios facto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actividad volcánica de la zo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l tipo de erup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presencia de pobl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Riesgo volcá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ctividad volcánica y bordes de pla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08000" y="5291280"/>
            <a:ext cx="92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mapa se observa cómo las zonas de mayor actividad volcánica (puntos rojos) coinciden con los bordes de placa, y por tanto, coinciden, en numerosas ocasiones, con aquellas de mayor riesgo sísmico (puntos amarillo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Zonas volcánicas del mu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1403280" y="1341360"/>
            <a:ext cx="5840640" cy="383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</cp:lastModifiedBy>
  <dcterms:modified xsi:type="dcterms:W3CDTF">2011-07-27T17:32:30Z</dcterms:modified>
  <cp:revision>47</cp:revision>
  <dc:subject/>
  <dc:title>Diapositiva 1</dc:title>
</cp:coreProperties>
</file>